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B672-8B14-4C19-B3A4-8B62363A2E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F003-36F1-4DF6-9F08-1428F59B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C200-4E9A-49A5-9C0B-228682B5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0FA8-2DCE-43B4-9882-A26143882C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9219-46A0-4E84-8692-D66767BB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DF70-D389-45D2-99D0-581AC84C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A7EB-2B78-42A7-9AFF-FCF5C654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16DE-CE7E-43F8-ABF9-19F20949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2BDB-6029-426E-83F7-51294081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75BC-81AB-45B3-9BF8-7277D6AF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B35C-0C3D-404C-9623-43756931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5C21-436F-44DC-882B-33B49B18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BB4F-6E26-4F59-AC26-FF2655C653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E12D-EB1A-40AA-B103-7B58108B168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九节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意识障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89EA-51D8-4858-ABB3-E7FC5C5C03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昏迷：是最严重的意识障碍，按其程度不同又可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轻度昏迷：大部分意识丧失，无自主运动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声、光刺激无反应，对疼痛刺激尚可出现痛苦表情或肢体退缩等防御反应吞咽反射、角膜反射、瞳孔对光反射、眼球运动等可存在，血压、脉搏、呼吸无明显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中度昏迷：对周围事物及各种刺激均无反应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剧烈刺激可有防御反应。无眼球转动，角膜反射减弱，瞳孔对光反射迟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深度昏迷：意识完全丧失，全身肌肉松弛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任何刺激均无反应，深、浅反射均消失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血压、脉搏、呼吸常有改变，二便失禁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AF85-4C8F-4E1C-B8B8-FB3FC5AD92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意识障碍发生的时间，发病前有无诱因、病程长短、意识障碍程度及其进展等，根据患者对刺激的反应，回答问题的准确性、肢体活动情况、痛觉试验、神经反射等可以判断有无意识障碍及程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有无低血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07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64E2-B563-420C-BF7D-6CDC3E6FC9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意识障碍相关的疾病史；有无癫痫等病史；有无类似发作史有无毒物或药物接触史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营养状况、意识状态、有无压疮等以及对患者生活质量的影响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如昏迷患者易并发肺部感染或尿路感染、口腔炎、结膜炎以及肢体肌肉挛缩畸形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C6A0-42C3-454F-A5BC-FC972F6C5C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2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急性意识障碍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2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丧失所致排尿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排便功能障碍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2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2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清理呼吸道无效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口腔黏膜受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3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脑出血有关；与肺性脑病、肝性脑病有关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4426560" y="52999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丧失自理能力及唾液分泌减少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DC0F-5924-4F1C-961D-64B26D6A02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44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营养失调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900000" y="4005360"/>
            <a:ext cx="7230960" cy="791640"/>
            <a:chOff x="900000" y="4005360"/>
            <a:chExt cx="7230960" cy="791640"/>
          </a:xfrm>
        </p:grpSpPr>
        <p:sp>
          <p:nvSpPr>
            <p:cNvPr id="248" name="AutoShape 12"/>
            <p:cNvSpPr/>
            <p:nvPr/>
          </p:nvSpPr>
          <p:spPr>
            <a:xfrm>
              <a:off x="3113640" y="4005360"/>
              <a:ext cx="5017320" cy="72324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自主运动消失有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排便、排尿失禁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900000" y="4186080"/>
              <a:ext cx="2327400" cy="610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有皮肤完整性受损的危险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51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52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有感染的危险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受伤害的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7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58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于机体需要量  与意识障碍不能正常进食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；与侵入性导尿装置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100760" y="5299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躁动不安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2B56-2E25-456A-89AB-8E05956685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011F-2C0A-4ED9-8C9E-E4BB0436F4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AA17-DF69-4DE4-AD56-AD98426582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意识障碍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意识障碍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F038-9EAA-4C6A-9015-B20AEA9CE0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ED6F-4F97-46EC-B2DF-C3B87F19DF1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C40A-777C-41CD-BED0-C70881C3C6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意识障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sturbance of consciousnes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人对周围环境及自身状态的识别和察觉能力出现障碍，对外界环境刺激缺乏反应的一种精神状态。意识障碍多由于高级神经中枢功能活动受损而引起，可表现为嗜睡、意识模糊、昏睡和谵妄，严重的意识障碍为昏迷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5A29-C1F6-4A64-835B-9A45B4C6CDC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脑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22D0-2911-4FAD-B37A-570E02ECCD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1287360" y="2146320"/>
            <a:ext cx="6099120" cy="4357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如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血管疾病：如脑出血、高血压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性病变：如脑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脑震荡、脑挫伤、颅骨骨折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癫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3993-4FF1-478B-AE20-C5F563D7A6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996E-9AFA-4940-98AD-B166C5C2DC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0"/>
          <p:cNvSpPr/>
          <p:nvPr/>
        </p:nvSpPr>
        <p:spPr>
          <a:xfrm>
            <a:off x="1258920" y="1071720"/>
            <a:ext cx="7599240" cy="5786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感染：如败血症、中毒性肺炎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血管疾病：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ams-Stok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分泌与代谢性疾病：如肝性脑病、尿毒症等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：安眠药、有机磷、乙醇、一氧化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物理性及缺氧性损害：如触电、溺水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、电解质平衡紊乱：如低钠血症、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DA14-4DD5-4769-8109-907CB630E3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5929-6566-459D-8A2F-16ED49FB9E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7800" y="16398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由意识内容和其“开关”系统组成。意识“开关”系统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激活大脑皮质并使之维持一定水平的兴奋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机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处于觉醒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在此基础上产生意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脑皮质和皮质下网状结构功能完整时，意识活动是清醒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59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3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759800" y="5464080"/>
            <a:ext cx="874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0834-48AA-4159-9C3B-A3B9C284C3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737C-0640-4562-8ADC-1F7A2A2379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8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2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55640" y="5229360"/>
            <a:ext cx="100008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2484360" y="2637000"/>
            <a:ext cx="2087640" cy="79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缺血、缺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411280" y="3716280"/>
            <a:ext cx="230364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供给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484360" y="4941720"/>
            <a:ext cx="223200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代谢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476360" y="30682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859280" y="2852640"/>
            <a:ext cx="73080" cy="2808360"/>
          </a:xfrm>
          <a:custGeom>
            <a:avLst/>
            <a:gdLst>
              <a:gd name="textAreaLeft" fmla="*/ 0 w 73080"/>
              <a:gd name="textAreaRight" fmla="*/ 26280 w 7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507672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580000" y="2421000"/>
            <a:ext cx="792360" cy="36734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651672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8388360" y="2637000"/>
            <a:ext cx="576360" cy="2808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539640" y="3141720"/>
            <a:ext cx="720720" cy="1800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547640" y="4941720"/>
            <a:ext cx="5050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948360" y="1052640"/>
            <a:ext cx="863640" cy="561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害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88508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8F52-64F2-4066-B7F1-0098594472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嗜睡：患者处于一种持续性的病理性睡眠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可被轻刺激唤醒，并能正确回答问题和做出各种反应，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但反应迟钝，当刺激去除后很快又入睡嗜睡是最轻的一种意识障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意识模糊：是较嗜睡为深的一种意识障碍。患者意识水平轻度降低，能保持简单的精神活动，但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对时间、地点、人物等定向能力发生障碍，思维和语言不连贯，可有错觉、幻觉、躁动不安、精神错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昏睡：是较严重的意识障碍。患者处于沉睡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难于唤醒，虽在强烈刺激下（如大声呼喊其姓名、摇动其身体、压迫眶上神经等），可被唤醒，但很快又入睡，醒时答话含糊或答非所问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谵妄：是一种以中枢神经系统兴奋性增高为主的急性脑功能失调。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表现为意识模糊，感觉错乱（幻觉、错觉等），定向力丧失、躁动不安、言语杂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等。主要见于急性感染高热期，中枢神经系统疾病，肝性脑病、急性酒精中毒、某些药物中毒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1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9:40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